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4950-F1CE-4FF4-883F-B85414C7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E8B9-04A6-4CB5-90B9-21226B1E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9A1-4AA5-4350-A7AE-64FD1B08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E49B-E3FD-49B6-B7DB-CF4FCD22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F541-6073-4DE6-B9EC-960B6CE6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2477-7169-4DB2-8F9F-FB04D504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DAEB-CADF-470B-9FE0-A07C89DB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BB40-9762-4AE7-86A2-95E30D60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C47A-4A3C-4C2A-BC67-E9888441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9927-87E8-4A23-A516-AD18B428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DEDB-4265-492B-9BD5-824905D0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359-AE6A-4E1F-8892-E31BD802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E2C9-0B9E-4A88-AA52-D4418CC9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4973-DD22-40DA-A368-92C0B057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29A5-E6AA-47CB-BAC7-7DCFFE8E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BF19-1873-4CBB-9EE1-96E7F0E7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F200-6423-4C23-A9E8-6974A956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6F94D-4373-4650-A686-53A408F5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C7764-DF27-4151-B432-EF572C3E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721A4-41AB-49FC-BF1F-46E24BEC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0E2C4-3ECD-46E2-A450-337FC27F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59727-FC66-4271-8FD4-AA29E4EA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C94-0852-40D3-BDEC-2E62A664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C71F7-B8A6-44D0-AEEF-AD25A165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9C6BD-E14B-448D-9813-80A8262A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50935-818C-4D52-B503-F6B27F55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29245-DB5A-4157-B1D5-7536DF7C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0A5AD-B613-4F13-A089-1CAAA27B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F5498-68A1-4F7D-BDEA-D40850B1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21A25-D68F-4CDD-94D8-826787D8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36A8F-3612-4285-A591-2D1F8E71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178CB-22B2-4465-AB0F-499D402F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7ABD2-37F8-482A-BC8C-388D7AB5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334-5155-4ECF-B6F9-DCF9624E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F0B70-254A-4ED2-97F4-DCCF6559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CFDC8-B150-42CE-8D00-FA2B50DA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2C7D2-124C-4CE7-8E0A-2256BB60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1BEB8-B39C-43FF-BE25-7A16F0AC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5E96E-8A02-47B6-B7B7-325C88FE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E133B-602C-4CF0-B642-199FF880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DF35A-201B-4CD3-BCED-1374A812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2D4F9-843C-4355-AAFD-3C462D0F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DEE0A-B753-43F4-9EC8-4CA427FC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9844F-4090-46AA-8279-244280E8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7C1-59E8-436B-BFD8-D98C7420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5D03B-E2E1-40FD-A9B3-FA48D6CF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26689-3D83-4D86-9DB4-5CCEF5C9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08E38-6DD4-43CB-9AB2-C63A961B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E038D-A43A-4299-BAF6-54C00ABA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43F19-E7B8-4777-95DF-8351644A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2BFFC-96F1-4067-A7F9-4E72B70E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7DB67-0ADF-413A-9A8C-95B1924E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BB34F-BC69-41FB-AD8C-8EF364F6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1960E-C5E5-43AF-8BEE-913D5433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2689A-E45A-4B16-9745-5FD3E825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855-41FF-40EE-B4EF-13390985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48FC2-1868-4240-BEAB-69265CBF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378-5720-44A1-901D-29A1391B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E7C-48DB-449D-AB5A-4801EF10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897-E8A6-4D15-B93E-FC05649B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FEE8-1BD0-416A-B4AC-50C1C4119C92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E195-D739-4BC9-A151-C24868BFCB7E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64C7-23E2-446D-B1A7-CE63435B4663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81F8-F89D-4511-9EFF-1DC405118AA2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B6EF-0160-4F1F-B4A6-C0B6F4A03CBA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2840" y="2120760"/>
            <a:ext cx="4614840" cy="16160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Project Presentation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804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228240" y="990360"/>
            <a:ext cx="84582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Behavior was surprising good (contracts, structure, checkpoints)…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498240" indent="-16596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Pick specific social/collaborative skills to narrow focus ont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Meeting with groups was difficult - some required lots of attention which limited availability to other groups (attendance concerns too             groups vs. individual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ome sort of workshop on using different programs to avoid PowerPoint's… broaden their option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ry to simplify paperwork to avoid “overkill” aspect of directions/expectation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Resources are a limiting factor (few iPads, laptop access, no lab access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8040" indent="-24804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Reserve for relevant topics (connections to modern, CER, models/examples)… takes time and front-loading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0" name="Right Arrow 3"/>
          <p:cNvSpPr/>
          <p:nvPr/>
        </p:nvSpPr>
        <p:spPr>
          <a:xfrm>
            <a:off x="4038480" y="28954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d48800"/>
          </a:solidFill>
          <a:ln w="15840">
            <a:solidFill>
              <a:srgbClr val="ffc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f you are interested in receiving a copy of this PowerPoint or the handouts… email me at: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bobcat320@hotmail.com  subject: Social Studi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nquiry/student selected topic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NxGL convening… new version of World histor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Research empires of interest (but are relevant to the course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ollaborative group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evelopment of professional (2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w Cen MT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 C. skills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pplication of skills and knowledge gathered in previous uni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Mapping, timelines, argumentation, Conrad Demarest Model, technology…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my Lentz (7 years of collaboration)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requent recipe: Bob = new idea or goal, Amy = logistics and quality control… product = well balance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1800" indent="-18036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hared my idea for feedback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1800" indent="-18036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tarted working on ide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1800" indent="-18036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hared the idea with rest of World CTP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1800" indent="-18036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Opt in to assist in creation of the produc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1800" indent="-180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0000" indent="-27000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dfe6d0"/>
                </a:solidFill>
                <a:uFillTx/>
                <a:latin typeface="Tw Cen MT"/>
              </a:rPr>
              <a:t>Reflection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: Fewer is easier, the moment the idea is shared it is subject to change… what is the comfort level/degree of acceptable compromise?  </a:t>
            </a:r>
            <a:r>
              <a:rPr b="0" lang="en-US" sz="2000" spc="-1" strike="noStrike">
                <a:solidFill>
                  <a:srgbClr val="dfe6d0"/>
                </a:solidFill>
                <a:latin typeface="Tw Cen MT"/>
              </a:rPr>
              <a:t>(Rhetorical…sorry!)</a:t>
            </a:r>
            <a:endParaRPr b="0" lang="en-US" sz="2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goal of the unit is to have students apply the empire model to regional empir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reated the following LT: </a:t>
            </a:r>
            <a:r>
              <a:rPr b="0" i="1" lang="en-US" sz="2400" spc="-1" strike="noStrike">
                <a:solidFill>
                  <a:srgbClr val="dfe6d0"/>
                </a:solidFill>
                <a:latin typeface="Tw Cen MT"/>
              </a:rPr>
              <a:t>Evaluate regional empires using the empire model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e final product would assess this target (as well as other things) but the checkpoints would also serve as formative assessments to indicate which groups (individuals would need assistance/remediation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dfe6d0"/>
                </a:solidFill>
                <a:uFillTx/>
                <a:latin typeface="Tw Cen MT"/>
              </a:rPr>
              <a:t>Reflection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: Write a social target as well, I stressed the behavioral and functional requirements and even assessed those component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Lot’s of components = considerable time (need to have benchmarks/checkpoints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Broke the task into portion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Grouped by ability from previous empire un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392"/>
                </a:solidFill>
                <a:latin typeface="Tw Cen MT"/>
              </a:rPr>
              <a:t>Contracts (expectations and conduct were assessed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Pre-test to assess group functioning and build community (eClicker as a team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Begin task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Review and increas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nal productio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Assess/reflect/feedback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fter groups/contracts/eClicker… </a:t>
            </a:r>
            <a:r>
              <a:rPr b="0" lang="en-US" sz="2400" spc="-1" strike="noStrike">
                <a:solidFill>
                  <a:srgbClr val="f8f392"/>
                </a:solidFill>
                <a:latin typeface="Tw Cen MT"/>
              </a:rPr>
              <a:t>Directions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, explanation of the assignment/expectations purpos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481680" indent="-16056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lection of empir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481680" indent="-16056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Roles/division of labor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40120" indent="-2401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392"/>
                </a:solidFill>
                <a:latin typeface="Tw Cen MT"/>
              </a:rPr>
              <a:t>Mapping/time-lining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 as skills and as future </a:t>
            </a:r>
            <a:r>
              <a:rPr b="0" lang="en-US" sz="2400" spc="-1" strike="noStrike" u="sng">
                <a:solidFill>
                  <a:srgbClr val="dfe6d0"/>
                </a:solidFill>
                <a:uFillTx/>
                <a:latin typeface="Tw Cen MT"/>
              </a:rPr>
              <a:t>evidenc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40120" indent="-2401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Rubric One (Largely skills and organizing information into the empire model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481680" indent="-16056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How it is grade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481680" indent="-16056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egree of information require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40120" indent="-2401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dfe6d0"/>
                </a:solidFill>
                <a:uFillTx/>
                <a:latin typeface="Tw Cen MT"/>
              </a:rPr>
              <a:t>Reflection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: Format was solid, students were confident and informed… I was impressed with results (step by step approach, requiring checkpoints, and not rushing to final product were critical (gathering evidence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fter demonstrating proficiency… groups began to make </a:t>
            </a:r>
            <a:r>
              <a:rPr b="0" lang="en-US" sz="2400" spc="-1" strike="noStrike" u="sng">
                <a:solidFill>
                  <a:srgbClr val="dfe6d0"/>
                </a:solidFill>
                <a:uFillTx/>
                <a:latin typeface="Tw Cen MT"/>
              </a:rPr>
              <a:t>Claims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 and organize </a:t>
            </a:r>
            <a:r>
              <a:rPr b="0" lang="en-US" sz="2400" spc="-1" strike="noStrike" u="sng">
                <a:solidFill>
                  <a:srgbClr val="dfe6d0"/>
                </a:solidFill>
                <a:uFillTx/>
                <a:latin typeface="Tw Cen MT"/>
              </a:rPr>
              <a:t>evidence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 using a </a:t>
            </a:r>
            <a:r>
              <a:rPr b="0" lang="en-US" sz="2400" spc="-1" strike="noStrike" u="sng">
                <a:solidFill>
                  <a:srgbClr val="f8f392"/>
                </a:solidFill>
                <a:uFillTx/>
                <a:latin typeface="Tw Cen MT"/>
              </a:rPr>
              <a:t>CER template (requiring teacher approval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Groups then focused on creating a product to share those arguments (</a:t>
            </a:r>
            <a:r>
              <a:rPr b="0" lang="en-US" sz="2400" spc="-1" strike="noStrike">
                <a:solidFill>
                  <a:srgbClr val="f8f392"/>
                </a:solidFill>
                <a:latin typeface="Tw Cen MT"/>
              </a:rPr>
              <a:t>suggestions were offered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, many still chose PowerPoint… limited exposure to others?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Rubric Two: not just information but quality of information (comparisons or just statements, best examples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392"/>
                </a:solidFill>
                <a:latin typeface="Tw Cen MT"/>
              </a:rPr>
              <a:t>Students reflected 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on: the concept, the assignment, their performance, group performanc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EEDBACK from Surveys: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-Select own groups (hard to work with partners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-more work time yet (7 days, roughly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-enjoyed the freedom of topic and produc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-felt prepared for the materia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-too much paper… break down even further or relax the requirements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rezi – Johnsto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Video – Yang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owerPoint – Johnso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owerPoint - Evan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03:13:14Z</dcterms:created>
  <dc:creator>Kuenzi</dc:creator>
  <dc:description/>
  <dc:language>en-US</dc:language>
  <cp:lastModifiedBy>Owner</cp:lastModifiedBy>
  <dcterms:modified xsi:type="dcterms:W3CDTF">2013-02-15T21:09:52Z</dcterms:modified>
  <cp:revision>24</cp:revision>
  <dc:subject/>
  <dc:title>Regional Empires</dc:title>
</cp:coreProperties>
</file>